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28A-8C55-4DCB-966F-9E125C96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F4B-0C87-4313-B1A6-4B561FA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377-D1EA-4BB7-9565-18D3957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7F2-5E31-419A-A44F-D6965381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522-3EA6-461C-8D60-4A9093A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31D-C73D-42F9-8820-33759990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3A7-00D6-4FD3-BB0A-4A64775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ABB-991D-42A3-B1B7-758810B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4D2-5E0B-4961-9787-D556A6EA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317-A443-46DC-A25E-E24778B4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6BE-941E-43A2-A887-CE64951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D87-D927-41C3-B667-691C5F0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74EC8-33B3-4EDA-BB5B-357B671103C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809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ere is there mal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The India, South America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Spain, France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The USA, Portugal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at are the symp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Laughter and high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Fever, chills, sweating and head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Hot and f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ura S. C, Zaira, Sandra and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2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60720" y="179280"/>
            <a:ext cx="395928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6166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Symptom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laria can occur despite taking anti-malarial drugs and symptoms of malaria infection usually occur within 9 to 14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340000" y="378000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360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reatmen depends on the severity of the infection, the patient´s age, inmune status, the pattern of antimalarial drug supceptibility and the cost and availability of such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19640" y="-360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reatmen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160720" y="3780000"/>
            <a:ext cx="521964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0" y="179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Where malaria i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79640" y="2160720"/>
            <a:ext cx="80992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60720" y="72072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Prevention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 should do everything it can to prevent mosquito bites. If you can, sleep in a room with screens on the windows and doors. Use a protective mosquito on her bed. At dusk, wear lightcoloured pants and shirts with long slee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419640" y="539640"/>
            <a:ext cx="3600360" cy="1800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What is malaria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laria is a disease caused by the parasite Plasmodium. The symptoms are varied, starting with fever 8 to 30 days after infection, accompanied or not, headache, muscle aches, diarrhea, weakness and c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79640" y="4319640"/>
            <a:ext cx="46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59640" y="378000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at is mal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A disease caused by plasmo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A vi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A common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ow do you avoid the mosquito sp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Taking a p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Drinking a glas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Sleeping with mosquito nets on windows and do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at does the treatment depen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As dark as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how bad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If you it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1:18:01Z</dcterms:created>
  <dc:creator/>
  <dc:description/>
  <dc:language>en-US</dc:language>
  <cp:lastModifiedBy/>
  <dcterms:modified xsi:type="dcterms:W3CDTF">2010-09-29T11:40:59Z</dcterms:modified>
  <cp:revision>7</cp:revision>
  <dc:subject/>
  <dc:title/>
</cp:coreProperties>
</file>